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07E06-08C4-497B-98F0-51AE68E51C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45154-C9AC-44A3-B832-D404D73F69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A92D3-CC4E-44B4-B543-64C1A9B3C0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D0B3B-8644-4307-8C51-71E3662E62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6AF708-9097-4C49-BB74-BCC793506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4F0BEC-2509-4661-8395-235C5F853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C94258-BAAE-4385-82FF-BEE865DFC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C0CBDE-D061-4DC0-A4CE-B6EA7E8A3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1C6F09-3778-421A-8291-6C92402EA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821844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0177B9-C35A-4BCF-8778-D1AA10F68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898355-1E9D-443F-9101-FC1692C4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445F6-EE59-48FB-83B5-494CC5D992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BF5460-31A3-4F88-A94B-D20A7BF74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A8F67B-EDC8-409A-97E5-3BD00989C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56C5C2-2638-456E-9D28-D6898B56D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502684-56DC-4B17-B0C0-F38E9FBD9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15A3DB-54A3-4F05-A46A-FC1D3114E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5CD83-944E-4095-B54D-CFB4AE351E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0E71B-0DB6-4EB2-A838-A5C4A7DC1C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78D7F-FF95-41AB-8239-CA5DE317D2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821844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6EDAC-29D2-4393-AF5E-A468BDA8C6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D35D4-0FAB-4738-B101-F99B491857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0F638-F574-4C14-92D9-E0AFCC7AAD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B5025-2B10-4DB0-8975-ED6B8F5C48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ndara"/>
              </a:rPr>
              <a:t>Click to edit the title text format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2" marL="987480" indent="-29376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3" marL="1281240" indent="-29232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4" marL="1598760" indent="-316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EDDFD-AB6E-4189-802C-EBB5CF7494CF}" type="slidenum">
              <a:rPr b="0" lang="sr-Latn-C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40"/>
          <p:cNvSpPr/>
          <p:nvPr/>
        </p:nvSpPr>
        <p:spPr>
          <a:xfrm>
            <a:off x="395280" y="1341360"/>
            <a:ext cx="8352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Line 41"/>
          <p:cNvSpPr/>
          <p:nvPr/>
        </p:nvSpPr>
        <p:spPr>
          <a:xfrm>
            <a:off x="6012000" y="6524640"/>
            <a:ext cx="27367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Line 42"/>
          <p:cNvSpPr/>
          <p:nvPr/>
        </p:nvSpPr>
        <p:spPr>
          <a:xfrm>
            <a:off x="8748720" y="5805360"/>
            <a:ext cx="0" cy="7207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" name="Line 43"/>
          <p:cNvSpPr/>
          <p:nvPr/>
        </p:nvSpPr>
        <p:spPr>
          <a:xfrm>
            <a:off x="4572000" y="260280"/>
            <a:ext cx="41767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5" descr=""/>
          <p:cNvPicPr/>
          <p:nvPr/>
        </p:nvPicPr>
        <p:blipFill>
          <a:blip r:embed="rId2"/>
          <a:stretch/>
        </p:blipFill>
        <p:spPr>
          <a:xfrm>
            <a:off x="1979640" y="68400"/>
            <a:ext cx="5040360" cy="11998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ndara"/>
              </a:rPr>
              <a:t>Click to edit the title text format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2" marL="987480" indent="-29376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3" marL="1281240" indent="-29232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4" marL="1598760" indent="-316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06A33-886B-4BF6-9C17-669719A4B634}" type="slidenum">
              <a:rPr b="0" lang="sr-Latn-C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1628640"/>
            <a:ext cx="9144000" cy="104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500" spc="-1" strike="noStrike">
                <a:solidFill>
                  <a:srgbClr val="000000"/>
                </a:solidFill>
                <a:latin typeface="Candara"/>
              </a:rPr>
              <a:t>ИНТЕГРИСАНЕ</a:t>
            </a:r>
            <a:r>
              <a:rPr b="1" lang="sr-Latn-CS" sz="25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lang="sr-CS" sz="2500" spc="-1" strike="noStrike">
                <a:solidFill>
                  <a:srgbClr val="000000"/>
                </a:solidFill>
                <a:latin typeface="Candara"/>
              </a:rPr>
              <a:t>АКАДЕМСКЕ СТУДИЈЕ ФАРМАЦИЈЕ</a:t>
            </a:r>
            <a:br>
              <a:rPr sz="2500"/>
            </a:br>
            <a:r>
              <a:rPr b="1" lang="sr-CS" sz="2500" spc="-1" strike="noStrike">
                <a:solidFill>
                  <a:srgbClr val="000000"/>
                </a:solidFill>
                <a:latin typeface="Candara"/>
              </a:rPr>
              <a:t>Издавање лекова у пракси</a:t>
            </a:r>
            <a:br>
              <a:rPr sz="2500"/>
            </a:br>
            <a:br>
              <a:rPr sz="1500"/>
            </a:br>
            <a:r>
              <a:rPr b="1" lang="sr-CS" sz="2500" spc="-1" strike="noStrike">
                <a:solidFill>
                  <a:srgbClr val="cc0000"/>
                </a:solidFill>
                <a:latin typeface="Candara"/>
              </a:rPr>
              <a:t>Предавање </a:t>
            </a:r>
            <a:r>
              <a:rPr b="1" lang="sr-Latn-CS" sz="2500" spc="-1" strike="noStrike">
                <a:solidFill>
                  <a:srgbClr val="cc0000"/>
                </a:solidFill>
                <a:latin typeface="Candara"/>
              </a:rPr>
              <a:t>7</a:t>
            </a:r>
            <a:endParaRPr b="1" lang="en-US" sz="25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0" y="3483000"/>
            <a:ext cx="9144000" cy="145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00"/>
                </a:solidFill>
                <a:latin typeface="Candara"/>
              </a:rPr>
              <a:t>Фармаколошки приступ и издавањ</a:t>
            </a:r>
            <a:r>
              <a:rPr b="1" lang="sr-Latn-CS" sz="3000" spc="-1" strike="noStrike">
                <a:solidFill>
                  <a:srgbClr val="000000"/>
                </a:solidFill>
                <a:latin typeface="Candara"/>
              </a:rPr>
              <a:t>е</a:t>
            </a:r>
            <a:r>
              <a:rPr b="1" lang="sr-CS" sz="3000" spc="-1" strike="noStrike">
                <a:solidFill>
                  <a:srgbClr val="000000"/>
                </a:solidFill>
                <a:latin typeface="Candara"/>
              </a:rPr>
              <a:t> лекова пацијентима са </a:t>
            </a:r>
            <a:r>
              <a:rPr b="1" i="1" lang="sr-Latn-CS" sz="3000" spc="-1" strike="noStrike">
                <a:solidFill>
                  <a:srgbClr val="000000"/>
                </a:solidFill>
                <a:latin typeface="Candara"/>
              </a:rPr>
              <a:t>diabetes mellitus</a:t>
            </a:r>
            <a:r>
              <a:rPr b="1" lang="sr-Latn-CS" sz="3000" spc="-1" strike="noStrike">
                <a:solidFill>
                  <a:srgbClr val="000000"/>
                </a:solidFill>
                <a:latin typeface="Candara"/>
              </a:rPr>
              <a:t>–o</a:t>
            </a:r>
            <a:r>
              <a:rPr b="1" lang="sr-CS" sz="3000" spc="-1" strike="noStrike">
                <a:solidFill>
                  <a:srgbClr val="000000"/>
                </a:solidFill>
                <a:latin typeface="Candara"/>
              </a:rPr>
              <a:t>м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indent="0" algn="ctr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Candara"/>
            </a:endParaRPr>
          </a:p>
          <a:p>
            <a:pPr indent="0" algn="ctr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4920" y="1630080"/>
            <a:ext cx="828036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Класи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ч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ни ре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ж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им примене инсулина подразумева примену фиксне дневне дозе средње- или дуго- делују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ћ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ег инсулина која обезбе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ђ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ује базални ниво хормона, и додатну примену кратко- или ултракратко</a:t>
            </a: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- делују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ћ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ег инсулина пре сваког оброка </a:t>
            </a:r>
            <a:endParaRPr b="0" lang="en-US" sz="27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Ради лак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ш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е примене, </a:t>
            </a: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ме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ш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ани</a:t>
            </a: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”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 препарати, који садр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ж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е средње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-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делују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ћ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и инсулин и инсулин лиспро</a:t>
            </a: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могу </a:t>
            </a: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се 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применити једном или два пута дневно</a:t>
            </a:r>
            <a:endParaRPr b="0" lang="en-US" sz="27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4920" y="43920"/>
            <a:ext cx="821844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300" spc="-1" strike="noStrike">
                <a:solidFill>
                  <a:srgbClr val="000000"/>
                </a:solidFill>
                <a:latin typeface="Candara"/>
              </a:rPr>
              <a:t>Типови дијабетес мелитуса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466560" y="1700280"/>
            <a:ext cx="8209080" cy="51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ndara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0" lang="sr-Latn-CS" sz="2800" spc="-1" strike="noStrike">
                <a:solidFill>
                  <a:srgbClr val="000000"/>
                </a:solidFill>
                <a:latin typeface="Candar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нсулин</a:t>
            </a:r>
            <a:r>
              <a:rPr b="0" lang="sr-Latn-CS" sz="2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-</a:t>
            </a:r>
            <a:r>
              <a:rPr b="0" lang="sr-Latn-CS" sz="2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зависни дијабетес (ИЗД или тип I</a:t>
            </a:r>
            <a:r>
              <a:rPr b="0" lang="sr-CS" sz="2800" spc="-1" strike="noStrike">
                <a:solidFill>
                  <a:srgbClr val="000000"/>
                </a:solidFill>
                <a:latin typeface="Candar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buClr>
                <a:srgbClr val="000000"/>
              </a:buClr>
              <a:buFont typeface="Candara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0" lang="sr-Latn-CS" sz="2800" spc="-1" strike="noStrike">
                <a:solidFill>
                  <a:srgbClr val="000000"/>
                </a:solidFill>
                <a:latin typeface="Candar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нсулин</a:t>
            </a:r>
            <a:r>
              <a:rPr b="0" lang="sr-Latn-CS" sz="2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-</a:t>
            </a:r>
            <a:r>
              <a:rPr b="0" lang="sr-Latn-CS" sz="2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независни дијабетес (ИНД или тип II)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andara"/>
              <a:buChar char="•"/>
              <a:tabLst>
                <a:tab algn="l" pos="44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44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ИЗД по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ч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иње оби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ч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но у детињству или раној младости услед аутоимуног о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ш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те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ћ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ења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 ћ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елија панкреаса, а ИНД у каснијем 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ж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ивоту услед исцрпљености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 ћ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елија континуираном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хиперстимулацијом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andara"/>
              <a:buChar char="•"/>
              <a:tabLst>
                <a:tab algn="l" pos="44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6560" y="1700280"/>
            <a:ext cx="8353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Код ИЗД</a:t>
            </a:r>
            <a:r>
              <a:rPr b="0" lang="sr-CS" sz="2800" spc="-1" strike="noStrike">
                <a:solidFill>
                  <a:srgbClr val="000000"/>
                </a:solidFill>
                <a:latin typeface="Candara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инсулин </a:t>
            </a:r>
            <a:r>
              <a:rPr b="0" lang="sr-CS" sz="2800" spc="-1" strike="noStrike">
                <a:solidFill>
                  <a:srgbClr val="000000"/>
                </a:solidFill>
                <a:latin typeface="Candara"/>
              </a:rPr>
              <a:t>скоро да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не постоји у крви 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Код ИНД ниво инсулина у крви је довољан да спре</a:t>
            </a:r>
            <a:r>
              <a:rPr b="0" lang="sr-Latn-CS" sz="2800" spc="-1" strike="noStrike">
                <a:solidFill>
                  <a:srgbClr val="000000"/>
                </a:solidFill>
                <a:latin typeface="Candara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и настанак кетоацидозе</a:t>
            </a:r>
            <a:r>
              <a:rPr b="0" lang="sr-CS" sz="2800" spc="-1" strike="noStrike">
                <a:solidFill>
                  <a:srgbClr val="000000"/>
                </a:solidFill>
                <a:latin typeface="Candara"/>
              </a:rPr>
              <a:t> -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доминира смањена осетљивост периферних ткива на инсулин и смањена ре</a:t>
            </a:r>
            <a:r>
              <a:rPr b="0" lang="sr-Latn-CS" sz="2800" spc="-1" strike="noStrike">
                <a:solidFill>
                  <a:srgbClr val="000000"/>
                </a:solidFill>
                <a:latin typeface="Candara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кција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ndara"/>
              </a:rPr>
              <a:t>ћ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елија панкреаса на глукозу из крви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ИЗД се ле</a:t>
            </a:r>
            <a:r>
              <a:rPr b="0" lang="sr-Latn-CS" sz="2800" spc="-1" strike="noStrike">
                <a:solidFill>
                  <a:srgbClr val="000000"/>
                </a:solidFill>
                <a:latin typeface="Candara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и инсулином, а ИНД оралним хипогликемицима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300" spc="-1" strike="noStrike">
                <a:solidFill>
                  <a:srgbClr val="000000"/>
                </a:solidFill>
                <a:latin typeface="Candara"/>
              </a:rPr>
              <a:t>“</a:t>
            </a:r>
            <a:r>
              <a:rPr b="1" lang="sr-CS" sz="3300" spc="-1" strike="noStrike">
                <a:solidFill>
                  <a:srgbClr val="000000"/>
                </a:solidFill>
                <a:latin typeface="Candara"/>
              </a:rPr>
              <a:t>Свич”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835164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ndara"/>
              </a:rPr>
              <a:t>Индикације за п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релаз</a:t>
            </a:r>
            <a:r>
              <a:rPr b="0" lang="sr-CS" sz="2800" spc="-1" strike="noStrike">
                <a:solidFill>
                  <a:srgbClr val="000000"/>
                </a:solidFill>
                <a:latin typeface="Candara"/>
              </a:rPr>
              <a:t>ак пацијената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са инсулин</a:t>
            </a:r>
            <a:r>
              <a:rPr b="0" lang="sr-Latn-CS" sz="2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-</a:t>
            </a:r>
            <a:r>
              <a:rPr b="0" lang="sr-Latn-CS" sz="2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независним дијабетесом на инсулинску терапију</a:t>
            </a:r>
            <a:r>
              <a:rPr b="0" lang="sr-CS" sz="2800" spc="-1" strike="noStrike">
                <a:solidFill>
                  <a:srgbClr val="000000"/>
                </a:solidFill>
                <a:latin typeface="Candar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spcBef>
                <a:spcPts val="7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ndara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ирур</a:t>
            </a:r>
            <a:r>
              <a:rPr b="0" lang="sr-Latn-CS" sz="2800" spc="-1" strike="noStrike">
                <a:solidFill>
                  <a:srgbClr val="000000"/>
                </a:solidFill>
                <a:latin typeface="Candara"/>
              </a:rPr>
              <a:t>ш</a:t>
            </a:r>
            <a:r>
              <a:rPr b="0" lang="sr-CS" sz="2800" spc="-1" strike="noStrike">
                <a:solidFill>
                  <a:srgbClr val="000000"/>
                </a:solidFill>
                <a:latin typeface="Candara"/>
              </a:rPr>
              <a:t>ка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интервенциј</a:t>
            </a:r>
            <a:r>
              <a:rPr b="0" lang="sr-CS" sz="2800" spc="-1" strike="noStrike">
                <a:solidFill>
                  <a:srgbClr val="000000"/>
                </a:solidFill>
                <a:latin typeface="Candara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spcBef>
                <a:spcPts val="7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ndara"/>
              </a:rPr>
              <a:t>Т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е</a:t>
            </a:r>
            <a:r>
              <a:rPr b="0" lang="sr-Latn-CS" sz="2800" spc="-1" strike="noStrike">
                <a:solidFill>
                  <a:srgbClr val="000000"/>
                </a:solidFill>
                <a:latin typeface="Candara"/>
              </a:rPr>
              <a:t>ш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к</a:t>
            </a:r>
            <a:r>
              <a:rPr b="0" lang="sr-CS" sz="2800" spc="-1" strike="noStrike">
                <a:solidFill>
                  <a:srgbClr val="000000"/>
                </a:solidFill>
                <a:latin typeface="Candara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инфекциј</a:t>
            </a:r>
            <a:r>
              <a:rPr b="0" lang="sr-CS" sz="2800" spc="-1" strike="noStrike">
                <a:solidFill>
                  <a:srgbClr val="000000"/>
                </a:solidFill>
                <a:latin typeface="Candara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spcBef>
                <a:spcPts val="7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ndara"/>
              </a:rPr>
              <a:t>Т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рудно</a:t>
            </a:r>
            <a:r>
              <a:rPr b="0" lang="sr-Latn-CS" sz="2800" spc="-1" strike="noStrike">
                <a:solidFill>
                  <a:srgbClr val="000000"/>
                </a:solidFill>
                <a:latin typeface="Candara"/>
              </a:rPr>
              <a:t>ћ</a:t>
            </a:r>
            <a:r>
              <a:rPr b="0" lang="sr-CS" sz="2800" spc="-1" strike="noStrike">
                <a:solidFill>
                  <a:srgbClr val="000000"/>
                </a:solidFill>
                <a:latin typeface="Candara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1342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ndara"/>
              </a:rPr>
              <a:t>Не</a:t>
            </a:r>
            <a:r>
              <a:rPr b="1" lang="sr-Latn-CS" sz="3300" spc="-1" strike="noStrike">
                <a:solidFill>
                  <a:srgbClr val="000000"/>
                </a:solidFill>
                <a:latin typeface="Candara"/>
              </a:rPr>
              <a:t>ж</a:t>
            </a:r>
            <a:r>
              <a:rPr b="1" lang="en-US" sz="3300" spc="-1" strike="noStrike">
                <a:solidFill>
                  <a:srgbClr val="000000"/>
                </a:solidFill>
                <a:latin typeface="Candara"/>
              </a:rPr>
              <a:t>ељена дејства инсулина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5280" y="1440000"/>
            <a:ext cx="842472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ndara"/>
            </a:endParaRPr>
          </a:p>
          <a:p>
            <a:pPr marL="339480" indent="-3394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ndara"/>
              </a:rPr>
              <a:t>Х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ndara"/>
              </a:rPr>
              <a:t>ипогликемија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 (глукоза у плазми испод 2.5 mMol/l) - настаје ако се инсулин предозира или није пра</a:t>
            </a: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ћ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ен одговарају</a:t>
            </a: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ћ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ом исхраном. </a:t>
            </a: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                   Манифестације: З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на</a:t>
            </a: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ци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 активације симпатикуса (тремор, презнојавање, глад, страх, тахикардиј</a:t>
            </a: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) и, </a:t>
            </a: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евентуално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 конфузиј</a:t>
            </a: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, конвулзиј</a:t>
            </a: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 и ком</a:t>
            </a: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. </a:t>
            </a: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                                                             Л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е</a:t>
            </a: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и се i.v. применом 50 ml 50</a:t>
            </a: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% глукозе</a:t>
            </a: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глукагоном </a:t>
            </a: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(1 mg s.c.) или</a:t>
            </a: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у раној фази хипогликемије, оралном применом глукозе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39480" indent="-3394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ndara"/>
              </a:rPr>
              <a:t>А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ndara"/>
              </a:rPr>
              <a:t>трофија масног ткива на месту s.c. ињекциј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ndara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39480" indent="-3394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ndara"/>
              </a:rPr>
              <a:t>Р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ndara"/>
              </a:rPr>
              <a:t>езистенција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 на инсулин услед стварања антитела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39480" indent="-3394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ndara"/>
              </a:rPr>
              <a:t>А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ndara"/>
              </a:rPr>
              <a:t>лергија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 на инсулин</a:t>
            </a: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7772400" cy="5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ndara"/>
              </a:rPr>
              <a:t>Орални хипогликемици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828036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Орални хипогликемици се користе само у терапији ИНД</a:t>
            </a:r>
            <a:endParaRPr b="0" lang="en-US" sz="27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Сулфонамиди, д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еривати сулфонилуреје </a:t>
            </a: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                                  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прва генерација: толбутамид, хлорпропамид; </a:t>
            </a: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                   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друга генерација: 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глибенкламид (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глибурид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)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, глипизид, глимепирид</a:t>
            </a:r>
            <a:endParaRPr b="0" lang="en-US" sz="27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Осим 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ш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то пове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ћ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авају секрецију инсулина, ови препарати смањују секрецију глукагона, 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ш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то доприноси контроли хипергликемије</a:t>
            </a:r>
            <a:endParaRPr b="0" lang="en-US" sz="27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46040" y="162828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П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репарати друге генерације имају </a:t>
            </a: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незнатно 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мање не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ж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ељених дејстава</a:t>
            </a: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 и односу на оне из прве; </a:t>
            </a:r>
            <a:r>
              <a:rPr b="0" i="1" lang="sr-CS" sz="2700" spc="-1" strike="noStrike">
                <a:solidFill>
                  <a:srgbClr val="000000"/>
                </a:solidFill>
                <a:latin typeface="Candara"/>
              </a:rPr>
              <a:t>генерално,</a:t>
            </a:r>
            <a:r>
              <a:rPr b="0" i="1" lang="en-US" sz="2700" spc="-1" strike="noStrike">
                <a:solidFill>
                  <a:srgbClr val="000000"/>
                </a:solidFill>
                <a:latin typeface="Candara"/>
              </a:rPr>
              <a:t> нема зна</a:t>
            </a:r>
            <a:r>
              <a:rPr b="0" i="1" lang="sr-Latn-CS" sz="2700" spc="-1" strike="noStrike">
                <a:solidFill>
                  <a:srgbClr val="000000"/>
                </a:solidFill>
                <a:latin typeface="Candara"/>
              </a:rPr>
              <a:t>ч</a:t>
            </a:r>
            <a:r>
              <a:rPr b="0" i="1" lang="en-US" sz="2700" spc="-1" strike="noStrike">
                <a:solidFill>
                  <a:srgbClr val="000000"/>
                </a:solidFill>
                <a:latin typeface="Candara"/>
              </a:rPr>
              <a:t>ајне разлике у ефикасности</a:t>
            </a:r>
            <a:r>
              <a:rPr b="0" i="1" lang="sr-CS" sz="2700" spc="-1" strike="noStrike">
                <a:solidFill>
                  <a:srgbClr val="000000"/>
                </a:solidFill>
                <a:latin typeface="Candar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Деривати сулфонилуреје су контраиндиковани у трудно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ћ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и (јер делују тератогено) и код болести јетре </a:t>
            </a:r>
            <a:endParaRPr b="0" lang="en-US" sz="27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Хлорпропамид има благо антидиуретско дејство (може бити индикован код инсипидног дијабетеса).</a:t>
            </a:r>
            <a:endParaRPr b="0" lang="en-US" sz="27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4920" y="195120"/>
            <a:ext cx="8280360" cy="114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ndara"/>
              </a:rPr>
              <a:t>Глимепирид</a:t>
            </a:r>
            <a:r>
              <a:rPr b="1" lang="sr-CS" sz="33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i="1" lang="sr-CS" sz="1500" spc="-1" strike="noStrike">
                <a:solidFill>
                  <a:srgbClr val="000000"/>
                </a:solidFill>
                <a:latin typeface="Candara"/>
              </a:rPr>
              <a:t>(на пример)</a:t>
            </a:r>
            <a:endParaRPr b="1" lang="en-US" sz="15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6200" y="1627200"/>
            <a:ext cx="81378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Х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ипогликемијска супстанца која је орално активна и припада групи 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деривата 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сулфонилуреј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е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С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тимулише ослобађање инсулина из бета ћелија панкреаса. </a:t>
            </a:r>
            <a:endParaRPr b="0" lang="en-US" sz="27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Слично другим сулфонилурејама, ово дејство се базира на појачаном одговору од стране бета ћелија панкреаса на физиолошку стимулацију глукозом.</a:t>
            </a:r>
            <a:endParaRPr b="0" lang="en-US" sz="27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4920" y="4608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ndara"/>
              </a:rPr>
              <a:t>Контраиндикације </a:t>
            </a:r>
            <a:endParaRPr b="1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000" y="1672920"/>
            <a:ext cx="82803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Гимепирид не треба користити 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код 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инсулин зависног дијабетеса, дијабетичне коме, кетоацидозе, тежих поремећаја јетре или бубрега, познате преосетљивости на глимепирид, друге сулфонилуреје или сулфонамиде, или на остале састојке (ексципијенсе) таблета. </a:t>
            </a:r>
            <a:endParaRPr b="0" lang="en-US" sz="27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5000"/>
              </a:lnSpc>
              <a:spcBef>
                <a:spcPts val="6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У случају тежих поремећаја јетре или бубрега</a:t>
            </a: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,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 треба прећи на инсулин. </a:t>
            </a:r>
            <a:endParaRPr b="0" lang="en-US" sz="27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49780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ndara"/>
              </a:rPr>
              <a:t>Посебна упозорења и мере опреза при употреби</a:t>
            </a:r>
            <a:endParaRPr b="1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4920" y="1700280"/>
            <a:ext cx="828036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95000"/>
              </a:lnSpc>
              <a:spcBef>
                <a:spcPts val="6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 u="sng">
                <a:solidFill>
                  <a:srgbClr val="000000"/>
                </a:solidFill>
                <a:uFillTx/>
                <a:latin typeface="Candara"/>
              </a:rPr>
              <a:t>Глимепирид узимати непосредно пре или за време оброка</a:t>
            </a: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ndara"/>
            </a:endParaRPr>
          </a:p>
          <a:p>
            <a:pPr marL="260640" indent="-260640">
              <a:lnSpc>
                <a:spcPct val="95000"/>
              </a:lnSpc>
              <a:spcBef>
                <a:spcPts val="6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Терапија глимепиридом може да доведе до </a:t>
            </a:r>
            <a:r>
              <a:rPr b="1" lang="sr-CS" sz="2700" spc="-1" strike="noStrike">
                <a:solidFill>
                  <a:srgbClr val="000000"/>
                </a:solidFill>
                <a:latin typeface="Candara"/>
              </a:rPr>
              <a:t>хипогликемије</a:t>
            </a: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 када су оброци нередовни или посебно када се прескоче. </a:t>
            </a:r>
            <a:endParaRPr b="0" lang="en-US" sz="2700" spc="-1" strike="noStrike">
              <a:solidFill>
                <a:srgbClr val="000000"/>
              </a:solidFill>
              <a:latin typeface="Candara"/>
            </a:endParaRPr>
          </a:p>
          <a:p>
            <a:pPr marL="260640" indent="-260640">
              <a:lnSpc>
                <a:spcPct val="95000"/>
              </a:lnSpc>
              <a:spcBef>
                <a:spcPts val="6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Candara"/>
              </a:rPr>
              <a:t>Истовремена примена глимепирида и неких других лекова може да доведе до нежељеног појачања или слабљења </a:t>
            </a: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његовог </a:t>
            </a:r>
            <a:r>
              <a:rPr b="0" lang="pl-PL" sz="2700" spc="-1" strike="noStrike">
                <a:solidFill>
                  <a:srgbClr val="000000"/>
                </a:solidFill>
                <a:latin typeface="Candara"/>
              </a:rPr>
              <a:t>хипогликемијског дејства</a:t>
            </a: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ndara"/>
            </a:endParaRPr>
          </a:p>
          <a:p>
            <a:pPr marL="2606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4920" y="609120"/>
            <a:ext cx="8062920" cy="73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300" spc="-1" strike="noStrike">
                <a:solidFill>
                  <a:srgbClr val="000000"/>
                </a:solidFill>
                <a:latin typeface="Candara"/>
              </a:rPr>
              <a:t>Шећерна болест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4920" y="1699920"/>
            <a:ext cx="8209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ndara"/>
              </a:rPr>
              <a:t>Б</a:t>
            </a: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олест која представља последицу недостатка инсулина (хормона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-</a:t>
            </a:r>
            <a:r>
              <a:rPr b="0" lang="sr-Latn-CS" sz="3000" spc="-1" strike="noStrike">
                <a:solidFill>
                  <a:srgbClr val="000000"/>
                </a:solidFill>
                <a:latin typeface="Candara"/>
              </a:rPr>
              <a:t>ћ</a:t>
            </a: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елија панкреаса) и/или смањене осетљивости периферних ткива на инсулин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andara"/>
              </a:rPr>
              <a:t>Спада у групу најчешћих ендокриних болести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453600"/>
            <a:ext cx="8461440" cy="88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ndara"/>
              </a:rPr>
              <a:t>Могуће су и</a:t>
            </a:r>
            <a:r>
              <a:rPr b="0" lang="it-IT" sz="2800" spc="-1" strike="noStrike">
                <a:solidFill>
                  <a:srgbClr val="000000"/>
                </a:solidFill>
                <a:latin typeface="Candara"/>
              </a:rPr>
              <a:t>нтеракције глимепирид</a:t>
            </a:r>
            <a:r>
              <a:rPr b="0" lang="sr-CS" sz="2800" spc="-1" strike="noStrike">
                <a:solidFill>
                  <a:srgbClr val="000000"/>
                </a:solidFill>
                <a:latin typeface="Candara"/>
              </a:rPr>
              <a:t>а</a:t>
            </a:r>
            <a:r>
              <a:rPr b="0" lang="it-IT" sz="2800" spc="-1" strike="noStrike">
                <a:solidFill>
                  <a:srgbClr val="000000"/>
                </a:solidFill>
                <a:latin typeface="Candara"/>
              </a:rPr>
              <a:t> и други</a:t>
            </a:r>
            <a:r>
              <a:rPr b="0" lang="sr-CS" sz="2800" spc="-1" strike="noStrike">
                <a:solidFill>
                  <a:srgbClr val="000000"/>
                </a:solidFill>
                <a:latin typeface="Candara"/>
              </a:rPr>
              <a:t>х</a:t>
            </a:r>
            <a:r>
              <a:rPr b="0" lang="it-IT" sz="2800" spc="-1" strike="noStrike">
                <a:solidFill>
                  <a:srgbClr val="000000"/>
                </a:solidFill>
                <a:latin typeface="Candara"/>
              </a:rPr>
              <a:t> сулфонилуреј</a:t>
            </a:r>
            <a:r>
              <a:rPr b="0" lang="sr-CS" sz="2800" spc="-1" strike="noStrike">
                <a:solidFill>
                  <a:srgbClr val="000000"/>
                </a:solidFill>
                <a:latin typeface="Candara"/>
              </a:rPr>
              <a:t>а и...</a:t>
            </a:r>
            <a:endParaRPr b="1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000" y="1566720"/>
            <a:ext cx="410364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Candara"/>
              </a:rPr>
              <a:t>Фенилбутазон, азапропазон и оксифенбутазон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  <a:p>
            <a:pPr marL="315360" indent="-31536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Candara"/>
              </a:rPr>
              <a:t>Инсулин и орални антидијабетици</a:t>
            </a: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(</a:t>
            </a:r>
            <a:r>
              <a:rPr b="0" lang="it-IT" sz="2100" spc="-1" strike="noStrike">
                <a:solidFill>
                  <a:srgbClr val="000000"/>
                </a:solidFill>
                <a:latin typeface="Candara"/>
              </a:rPr>
              <a:t>метформин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  <a:p>
            <a:pPr marL="315360" indent="-31536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Candara"/>
              </a:rPr>
              <a:t>Салицилати и пара-амино салицилна киселина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  <a:p>
            <a:pPr marL="315360" indent="-31536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Candara"/>
              </a:rPr>
              <a:t>Анаболички стероиди и мушки полни хормони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  <a:p>
            <a:pPr marL="315360" indent="-31536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Candara"/>
              </a:rPr>
              <a:t>Хлорамфеникол 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  <a:p>
            <a:pPr marL="315360" indent="-31536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Candara"/>
              </a:rPr>
              <a:t>Кумарински антикоагуланси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  <a:p>
            <a:pPr marL="315360" indent="-31536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Candara"/>
              </a:rPr>
              <a:t>Фенфлурамин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  <a:p>
            <a:pPr marL="315360" indent="-31536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Candara"/>
              </a:rPr>
              <a:t>Фибрати 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  <a:p>
            <a:pPr marL="315360" indent="-31536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Candara"/>
              </a:rPr>
              <a:t>АЦЕ инхибитори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  <a:p>
            <a:pPr marL="315360" indent="-31536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Candara"/>
              </a:rPr>
              <a:t>Флуоксетин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  <a:p>
            <a:pPr marL="315360" indent="-31536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Candara"/>
              </a:rPr>
              <a:t>Алопуринол 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42920" y="1555920"/>
            <a:ext cx="38163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Candara"/>
              </a:rPr>
              <a:t>Симпатолитици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  <a:p>
            <a:pPr marL="329040" indent="-32904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Candara"/>
              </a:rPr>
              <a:t>Сулфинпиразон 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  <a:p>
            <a:pPr marL="329040" indent="-32904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Candara"/>
              </a:rPr>
              <a:t>Неки сулфонамиди дугог дејства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  <a:p>
            <a:pPr marL="329040" indent="-32904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Candara"/>
              </a:rPr>
              <a:t>Тетрациклини 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  <a:p>
            <a:pPr marL="329040" indent="-32904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Candara"/>
              </a:rPr>
              <a:t>МАО инхибитори 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  <a:p>
            <a:pPr marL="329040" indent="-32904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Х</a:t>
            </a:r>
            <a:r>
              <a:rPr b="0" lang="it-IT" sz="2100" spc="-1" strike="noStrike">
                <a:solidFill>
                  <a:srgbClr val="000000"/>
                </a:solidFill>
                <a:latin typeface="Candara"/>
              </a:rPr>
              <a:t>инолони 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и</a:t>
            </a:r>
            <a:r>
              <a:rPr b="0" lang="it-IT" sz="2100" spc="-1" strike="noStrike">
                <a:solidFill>
                  <a:srgbClr val="000000"/>
                </a:solidFill>
                <a:latin typeface="Candara"/>
              </a:rPr>
              <a:t> кларитромицин 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  <a:p>
            <a:pPr marL="329040" indent="-32904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Candara"/>
              </a:rPr>
              <a:t>Пробенецид 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  <a:p>
            <a:pPr marL="329040" indent="-32904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Candara"/>
              </a:rPr>
              <a:t>Миконазол 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  <a:p>
            <a:pPr marL="329040" indent="-32904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Candara"/>
              </a:rPr>
              <a:t>Пентоксифилин (високе дозе, парентерално)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  <a:p>
            <a:pPr marL="329040" indent="-32904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Candara"/>
              </a:rPr>
              <a:t>Тритоквалин 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  <a:p>
            <a:pPr marL="329040" indent="-32904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Candara"/>
              </a:rPr>
              <a:t>Флуконазол 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  <a:p>
            <a:pPr marL="329040" indent="-32904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Candara"/>
              </a:rPr>
              <a:t>Цикло-, тро- и ифосфамиди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  <a:p>
            <a:pPr marL="329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3640" y="122400"/>
            <a:ext cx="835164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ndara"/>
              </a:rPr>
              <a:t>Нежељена дејства</a:t>
            </a:r>
            <a:r>
              <a:rPr b="1" lang="en-US" sz="33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6720" y="1557000"/>
            <a:ext cx="8352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ndara"/>
              </a:rPr>
              <a:t>Имуни систем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Ретко, 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реакције благе преосетљивости могу се развити у тешке реакције са диспнејом, падом 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тензије.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ndara"/>
              </a:rPr>
              <a:t>Крв и лимфни систем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Промене у хематолошким параметрима су </a:t>
            </a:r>
            <a:r>
              <a:rPr b="1" lang="en-US" sz="2200" spc="-1" strike="noStrike">
                <a:solidFill>
                  <a:srgbClr val="000000"/>
                </a:solidFill>
                <a:latin typeface="Candara"/>
              </a:rPr>
              <a:t>РЕТКЕ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 током терапије глимепиридом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умерена до тешка тромбоцитопенија, леукопенија, еритроцитопенија, гранулоцитопенија, агранулоцитоза, хемолитичка анемија и панцитопенија. 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Ови поремећаји су обично реверзибилне природе 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 повлаче се са обустав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ом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 терапије. 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ndara"/>
              </a:rPr>
              <a:t>Метаболизам и исхрана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5000"/>
              </a:lnSpc>
              <a:spcBef>
                <a:spcPts val="55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Ретко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, хипогликемијске реакције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;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 ове реакције наступају одмах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 могу бити тешке и није их увек лако кориговати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П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ојава таквих хипогликемијских реакција зависи од индивидуалних фактора 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навике у исхрани и доза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)</a:t>
            </a:r>
            <a:r>
              <a:rPr b="0" lang="sr-Latn-CS" sz="2200" spc="-1" strike="noStrike">
                <a:solidFill>
                  <a:srgbClr val="000000"/>
                </a:solidFill>
                <a:latin typeface="Candara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marL="34308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marL="34308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ndara"/>
              </a:rPr>
              <a:t>Очи 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5000"/>
              </a:lnSpc>
              <a:spcBef>
                <a:spcPts val="55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Због промена у нивоима глукозе у крви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 може доћи до пролазних поремећаја вида, 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нарочито при започињању 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терапије. 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323640" y="122400"/>
            <a:ext cx="835164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ndara"/>
              </a:rPr>
              <a:t>Нежељена дејства</a:t>
            </a:r>
            <a:r>
              <a:rPr b="1" lang="en-US" sz="33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19040" y="1604520"/>
            <a:ext cx="832968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ndara"/>
              </a:rPr>
              <a:t>Гастроинтестинални тракт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М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учнина, повраћање, дијареја, притисак у епигастијуму, надутост и бол у 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абдомену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 јављају се ВЕОМА РЕТКО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 (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још ређе доводе до прекида терапије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ndara"/>
              </a:rPr>
              <a:t>Хепатобилијарни систем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Може доћи до пораста ензима јетре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;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у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 веома ретким случајевима 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и 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до слабљења хепатичке функције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ndara"/>
              </a:rPr>
              <a:t>Кожа и поткожно ткиво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С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враб, оспа и уртикарија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;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у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 веома ретким случајевима могућа </a:t>
            </a:r>
            <a:r>
              <a:rPr b="0" lang="sr-Latn-CS" sz="22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је појава преосетљивости на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светло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ст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323640" y="122400"/>
            <a:ext cx="835164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ndara"/>
              </a:rPr>
              <a:t>Нежељена дејства</a:t>
            </a:r>
            <a:r>
              <a:rPr b="1" lang="en-US" sz="33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4920" y="43920"/>
            <a:ext cx="821844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ndara"/>
              </a:rPr>
              <a:t>Предозирање </a:t>
            </a:r>
            <a:endParaRPr b="1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5406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Развој 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хипогликемије у трајању од 12 до 72 </a:t>
            </a: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h</a:t>
            </a: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Препорука: 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болничка опсервација.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Могућ развој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 мучнине, повраћања и епигастричног бола.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Х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ипогликемија може бити праћена и неуролошким симптомима</a:t>
            </a: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тремор, агитација, проблеми са координацијом, омамљеност, конвулзије и</a:t>
            </a: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кома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Акутно предозирање, као и дуготрајна </a:t>
            </a: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примена и</a:t>
            </a: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сувише</a:t>
            </a: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високи</a:t>
            </a: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х</a:t>
            </a: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 доза глимепирида </a:t>
            </a:r>
            <a:r>
              <a:rPr b="0" lang="sr-CS" sz="2800" spc="-1" strike="noStrike">
                <a:solidFill>
                  <a:srgbClr val="000000"/>
                </a:solidFill>
                <a:latin typeface="Candara"/>
              </a:rPr>
              <a:t>→</a:t>
            </a: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 настанак </a:t>
            </a: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животно угрожавајуће хипогликемије.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94920" y="1622520"/>
            <a:ext cx="8062920" cy="45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andara"/>
              </a:rPr>
              <a:t>Бигваниди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 (метформин) поспе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ш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ују улазак глукозе у 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ћ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елије периферних ткива и смањују стварање глукозе у јетри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; делотворни су 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и код 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оних пацијената код којих 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ви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ш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е нема функционалних 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           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 ћ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елија у панкреасу. 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Е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угликем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ици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Ло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ш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е стране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”: 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склоност да изазову мле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ч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но-киселинску ацидозу, губитак апетита 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и 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метални укус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394920" y="43920"/>
            <a:ext cx="821844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ndara"/>
              </a:rPr>
              <a:t>Бигваниди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andara"/>
              </a:rPr>
              <a:t>Дозирање и начин примене</a:t>
            </a:r>
            <a:r>
              <a:rPr b="1" lang="sr-Latn-CS" sz="3100" spc="-1" strike="noStrike">
                <a:solidFill>
                  <a:srgbClr val="000000"/>
                </a:solidFill>
                <a:latin typeface="Candara"/>
              </a:rPr>
              <a:t> метформина</a:t>
            </a:r>
            <a:r>
              <a:rPr b="1" lang="en-US" sz="29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1" lang="en-US" sz="29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52440" y="1627200"/>
            <a:ext cx="85406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Монотерапија и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ли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 комбинација са другим оралним антидијабетицима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5000"/>
              </a:lnSpc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andara"/>
              </a:rPr>
              <a:t>Уобичајена почетна доза је једна таблета (500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pl-PL" sz="2600" spc="-1" strike="noStrike">
                <a:solidFill>
                  <a:srgbClr val="000000"/>
                </a:solidFill>
                <a:latin typeface="Candara"/>
              </a:rPr>
              <a:t>mg), 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                </a:t>
            </a:r>
            <a:r>
              <a:rPr b="0" lang="pl-PL" sz="2600" spc="-1" strike="noStrike">
                <a:solidFill>
                  <a:srgbClr val="000000"/>
                </a:solidFill>
                <a:latin typeface="Candara"/>
              </a:rPr>
              <a:t>2 до 3 пута дневно, која се узима за време или после оброка. 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5000"/>
              </a:lnSpc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andara"/>
              </a:rPr>
              <a:t>После 7 до 14 дана, дозу треба прилагодити 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сходно</a:t>
            </a:r>
            <a:r>
              <a:rPr b="0" lang="pl-PL" sz="2600" spc="-1" strike="noStrike">
                <a:solidFill>
                  <a:srgbClr val="000000"/>
                </a:solidFill>
                <a:latin typeface="Candara"/>
              </a:rPr>
              <a:t> измерен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ом</a:t>
            </a:r>
            <a:r>
              <a:rPr b="0" lang="pl-PL" sz="2600" spc="-1" strike="noStrike">
                <a:solidFill>
                  <a:srgbClr val="000000"/>
                </a:solidFill>
                <a:latin typeface="Candara"/>
              </a:rPr>
              <a:t> нив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оу</a:t>
            </a:r>
            <a:r>
              <a:rPr b="0" lang="pl-PL" sz="2600" spc="-1" strike="noStrike">
                <a:solidFill>
                  <a:srgbClr val="000000"/>
                </a:solidFill>
                <a:latin typeface="Candara"/>
              </a:rPr>
              <a:t> шећера у крви. 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5000"/>
              </a:lnSpc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andara"/>
              </a:rPr>
              <a:t>Лагано повећавање дозе може побољшати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pl-PL" sz="2600" spc="-1" strike="noStrike">
                <a:solidFill>
                  <a:srgbClr val="000000"/>
                </a:solidFill>
                <a:latin typeface="Candara"/>
              </a:rPr>
              <a:t>гастроинтестиналну подношљивост. 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560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Candara"/>
              </a:rPr>
              <a:t>Контраиндикације </a:t>
            </a:r>
            <a:r>
              <a:rPr b="1" lang="sr-Latn-CS" sz="2900" spc="-1" strike="noStrike">
                <a:solidFill>
                  <a:srgbClr val="000000"/>
                </a:solidFill>
                <a:latin typeface="Candara"/>
              </a:rPr>
              <a:t>за примену метформина</a:t>
            </a:r>
            <a:endParaRPr b="1" lang="en-US" sz="29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23640" y="1544400"/>
            <a:ext cx="4608360" cy="47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524"/>
              </a:spcBef>
              <a:buClr>
                <a:srgbClr val="000000"/>
              </a:buClr>
              <a:buFont typeface="Candara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Преосетљивост на метформин </a:t>
            </a: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или на било који од ексципијенаса.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  <a:p>
            <a:pPr marL="322200" indent="-322200">
              <a:spcBef>
                <a:spcPts val="524"/>
              </a:spcBef>
              <a:buClr>
                <a:srgbClr val="000000"/>
              </a:buClr>
              <a:buFont typeface="Candara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Дијабетична кетоацидоза, дијабетична предкома.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  <a:p>
            <a:pPr marL="322200" indent="-322200">
              <a:spcBef>
                <a:spcPts val="524"/>
              </a:spcBef>
              <a:buClr>
                <a:srgbClr val="000000"/>
              </a:buClr>
              <a:buFont typeface="Candara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Бубрежна инсуфицијенција или дисфункција 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  <a:p>
            <a:pPr marL="322200" indent="-322200">
              <a:spcBef>
                <a:spcPts val="524"/>
              </a:spcBef>
              <a:buClr>
                <a:srgbClr val="000000"/>
              </a:buClr>
              <a:buFont typeface="Candara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Акутна стања </a:t>
            </a: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која могу 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да промене реналну функцију: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  <a:p>
            <a:pPr marL="322200" indent="0">
              <a:spcBef>
                <a:spcPts val="524"/>
              </a:spcBef>
              <a:buNone/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-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 дехидратација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  <a:p>
            <a:pPr marL="322200" indent="0">
              <a:spcBef>
                <a:spcPts val="524"/>
              </a:spcBef>
              <a:buNone/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-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 тешка инфекција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  <a:p>
            <a:pPr marL="322200" indent="0">
              <a:spcBef>
                <a:spcPts val="524"/>
              </a:spcBef>
              <a:buNone/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-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 интраваскуларна примена </a:t>
            </a: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контрастних</a:t>
            </a: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средстава са јодом 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  <a:p>
            <a:pPr marL="322200" indent="0">
              <a:spcBef>
                <a:spcPts val="524"/>
              </a:spcBef>
              <a:buNone/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-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 шок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  <a:p>
            <a:pPr marL="322200" indent="0">
              <a:spcBef>
                <a:spcPts val="524"/>
              </a:spcBef>
              <a:buNone/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  <a:p>
            <a:pPr marL="322200" indent="0">
              <a:spcBef>
                <a:spcPts val="524"/>
              </a:spcBef>
              <a:buNone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858920" y="1557000"/>
            <a:ext cx="3902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Candara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Акутна или хронична болест која може да </a:t>
            </a: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узрокује 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хипоксију ткива: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-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 срчана или респираторна </a:t>
            </a: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инсуфицијенција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-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 скорашњи инфаркт</a:t>
            </a: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миокарда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Candara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Инсуфицијенција јетре, алкохолизам.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Candara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Candara"/>
              </a:rPr>
              <a:t>Лактација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4920" y="43920"/>
            <a:ext cx="821844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ndara"/>
              </a:rPr>
              <a:t>Акарбоза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95280" y="1657080"/>
            <a:ext cx="8136000" cy="37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Могућа примена код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 болесника са ИНД који не реагују на дијету или претходно наведене хипогликемике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32640" indent="-3326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Н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е апсорбује 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се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32640" indent="-3326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И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нхибира ензиме сукразу и малтазу 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32640" indent="-3326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Инхибиција 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наведених 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ензима оте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ж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ава дигестију дисахарида (сахароз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е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, малтоз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е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) и тиме успорава и смањује апсорпцију гликозе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32640" indent="-3326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Може да изазове бол у трбуху, надимање, дијареју, а у већим дозама, хемијски хепатитис.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770400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300" spc="-1" strike="noStrike">
                <a:solidFill>
                  <a:srgbClr val="000000"/>
                </a:solidFill>
                <a:latin typeface="Candara"/>
              </a:rPr>
              <a:t>Р</a:t>
            </a:r>
            <a:r>
              <a:rPr b="1" lang="en-US" sz="3300" spc="-1" strike="noStrike">
                <a:solidFill>
                  <a:srgbClr val="000000"/>
                </a:solidFill>
                <a:latin typeface="Candara"/>
              </a:rPr>
              <a:t>осиглитазон и пиоглитазон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95280" y="148572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5000"/>
              </a:lnSpc>
              <a:spcBef>
                <a:spcPts val="55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Тиазолидиндиони (росиглитазон и пиоглитазон) делују на </a:t>
            </a:r>
            <a:r>
              <a:rPr b="0" lang="sr-Latn-CS" sz="2200" spc="-1" strike="noStrike">
                <a:solidFill>
                  <a:srgbClr val="000000"/>
                </a:solidFill>
                <a:latin typeface="Candara"/>
              </a:rPr>
              <a:t>ћ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елије периферних ткива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 имитирају</a:t>
            </a:r>
            <a:r>
              <a:rPr b="0" lang="sr-Latn-CS" sz="2200" spc="-1" strike="noStrike">
                <a:solidFill>
                  <a:srgbClr val="000000"/>
                </a:solidFill>
                <a:latin typeface="Candara"/>
              </a:rPr>
              <a:t>ћ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и дејство инсулина. 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marL="329040" indent="-329040">
              <a:lnSpc>
                <a:spcPct val="85000"/>
              </a:lnSpc>
              <a:spcBef>
                <a:spcPts val="55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Клини</a:t>
            </a:r>
            <a:r>
              <a:rPr b="0" lang="sr-Latn-CS" sz="2200" spc="-1" strike="noStrike">
                <a:solidFill>
                  <a:srgbClr val="000000"/>
                </a:solidFill>
                <a:latin typeface="Candara"/>
              </a:rPr>
              <a:t>ч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ки се користе за ле</a:t>
            </a:r>
            <a:r>
              <a:rPr b="0" lang="sr-Latn-CS" sz="2200" spc="-1" strike="noStrike">
                <a:solidFill>
                  <a:srgbClr val="000000"/>
                </a:solidFill>
                <a:latin typeface="Candara"/>
              </a:rPr>
              <a:t>ч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ење ИНД, сами или у комбинацији </a:t>
            </a:r>
            <a:r>
              <a:rPr b="0" lang="sr-Latn-CS" sz="2200" spc="-1" strike="noStrike">
                <a:solidFill>
                  <a:srgbClr val="000000"/>
                </a:solidFill>
                <a:latin typeface="Candara"/>
              </a:rPr>
              <a:t>         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са бигванидима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marL="329040" indent="-329040">
              <a:lnSpc>
                <a:spcPct val="85000"/>
              </a:lnSpc>
              <a:spcBef>
                <a:spcPts val="55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Смањују ниво триглицерида, а пове</a:t>
            </a:r>
            <a:r>
              <a:rPr b="0" lang="sr-Latn-CS" sz="2200" spc="-1" strike="noStrike">
                <a:solidFill>
                  <a:srgbClr val="000000"/>
                </a:solidFill>
                <a:latin typeface="Candara"/>
              </a:rPr>
              <a:t>ћ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авају ниво HDL и LDL липопротеина 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marL="329040" indent="-329040">
              <a:lnSpc>
                <a:spcPct val="85000"/>
              </a:lnSpc>
              <a:spcBef>
                <a:spcPts val="55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Д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оводе до редистрибуције масти: смањује се висцерално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а пове</a:t>
            </a:r>
            <a:r>
              <a:rPr b="0" lang="sr-Latn-CS" sz="2200" spc="-1" strike="noStrike">
                <a:solidFill>
                  <a:srgbClr val="000000"/>
                </a:solidFill>
                <a:latin typeface="Candara"/>
              </a:rPr>
              <a:t>ћ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ава периферно масно ткиво 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marL="329040" indent="-329040">
              <a:lnSpc>
                <a:spcPct val="85000"/>
              </a:lnSpc>
              <a:spcBef>
                <a:spcPts val="55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Ретко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 доводе до хипогликемије. 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marL="329040" indent="-329040">
              <a:lnSpc>
                <a:spcPct val="85000"/>
              </a:lnSpc>
              <a:spcBef>
                <a:spcPts val="55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Н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е</a:t>
            </a:r>
            <a:r>
              <a:rPr b="0" lang="sr-Latn-CS" sz="2200" spc="-1" strike="noStrike">
                <a:solidFill>
                  <a:srgbClr val="000000"/>
                </a:solidFill>
                <a:latin typeface="Candara"/>
              </a:rPr>
              <a:t>ж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ељена дејства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: росиглитазон - инсуфицијенција срца (повучен из употребе у већини земаља). Остала: 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блага анемија, едеми и индукција цитохрома П450 у јетри, због </a:t>
            </a:r>
            <a:r>
              <a:rPr b="0" lang="sr-Latn-CS" sz="2200" spc="-1" strike="noStrike">
                <a:solidFill>
                  <a:srgbClr val="000000"/>
                </a:solidFill>
                <a:latin typeface="Candara"/>
              </a:rPr>
              <a:t>ч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ега смањују ефекте н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а пример,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 оралних контрацептива) 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marL="329040" indent="-329040">
              <a:lnSpc>
                <a:spcPct val="85000"/>
              </a:lnSpc>
              <a:spcBef>
                <a:spcPts val="55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Пиоглитазон - појачан степен контроле при употреби у смислу ране детекције појаве знакова срчане инсуфицијенције 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4920" y="549360"/>
            <a:ext cx="813276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300" spc="-1" strike="noStrike">
                <a:solidFill>
                  <a:srgbClr val="000000"/>
                </a:solidFill>
                <a:latin typeface="Candara"/>
              </a:rPr>
              <a:t>Инсулин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П</a:t>
            </a: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ептидни хормон</a:t>
            </a: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са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ч</a:t>
            </a: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ињен од два ланца повезана дисулфидним везама 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  <a:p>
            <a:pPr marL="332640" indent="-3326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Н</a:t>
            </a: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астаје хидролизом проинсулина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 и</a:t>
            </a: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 депонује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 се </a:t>
            </a: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у гранулама 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                  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ћ</a:t>
            </a: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елија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 панкреаса</a:t>
            </a: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, где формира кристале са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ч</a:t>
            </a: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ињене од 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ш</a:t>
            </a: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ест његових молекула и два атома цинка 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  <a:p>
            <a:pPr marL="332640" indent="-3326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Инсулин се из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ћ</a:t>
            </a: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елија панкреаса излу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ч</a:t>
            </a: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ује </a:t>
            </a: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доминантно</a:t>
            </a: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 на основу </a:t>
            </a: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деловања </a:t>
            </a: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глукозе из крви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  <a:p>
            <a:pPr marL="332640" indent="-3326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Глукоза пове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ћ</a:t>
            </a: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ава ниво АТП-а у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 ћ</a:t>
            </a: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елијама </a:t>
            </a: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         </a:t>
            </a: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затварањ</a:t>
            </a: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е</a:t>
            </a: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 канала за калијум у 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ћ</a:t>
            </a: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елијској мембрани 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      </a:t>
            </a: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деполаризациј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a</a:t>
            </a: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          </a:t>
            </a: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отварањ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e</a:t>
            </a: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 канала за калцијум 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       </a:t>
            </a: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ула</a:t>
            </a: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з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a</a:t>
            </a: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к калцијума у 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ћ</a:t>
            </a: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елију </a:t>
            </a: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          </a:t>
            </a: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егзоцитоз</a:t>
            </a: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а</a:t>
            </a: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 гранула са инсулином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  <a:p>
            <a:pPr marL="332640" indent="-3326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Р</a:t>
            </a: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азгра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ђ</a:t>
            </a: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ује </a:t>
            </a: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се </a:t>
            </a: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у јетри и бубрезима путем хидролизе дисулфидних мостова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  <a:p>
            <a:pPr marL="332640" indent="-3326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Активност инсулина се изра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ж</a:t>
            </a: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ава у интернационалним јединицам</a:t>
            </a:r>
            <a:r>
              <a:rPr b="0" lang="sr-Latn-CS" sz="2100" spc="-1" strike="noStrike">
                <a:solidFill>
                  <a:srgbClr val="000000"/>
                </a:solidFill>
                <a:latin typeface="Candara"/>
              </a:rPr>
              <a:t>а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  <a:p>
            <a:pPr marL="3326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2" name="Line 6"/>
          <p:cNvSpPr/>
          <p:nvPr/>
        </p:nvSpPr>
        <p:spPr>
          <a:xfrm>
            <a:off x="7164360" y="4221000"/>
            <a:ext cx="432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3" name="Line 7"/>
          <p:cNvSpPr/>
          <p:nvPr/>
        </p:nvSpPr>
        <p:spPr>
          <a:xfrm>
            <a:off x="4284720" y="4508640"/>
            <a:ext cx="43164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4" name="Line 8"/>
          <p:cNvSpPr/>
          <p:nvPr/>
        </p:nvSpPr>
        <p:spPr>
          <a:xfrm>
            <a:off x="4716360" y="4292640"/>
            <a:ext cx="432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5" name="Line 9"/>
          <p:cNvSpPr/>
          <p:nvPr/>
        </p:nvSpPr>
        <p:spPr>
          <a:xfrm>
            <a:off x="7812000" y="4508640"/>
            <a:ext cx="432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6" name="Line 10"/>
          <p:cNvSpPr/>
          <p:nvPr/>
        </p:nvSpPr>
        <p:spPr>
          <a:xfrm>
            <a:off x="7164360" y="4292640"/>
            <a:ext cx="432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Line 11"/>
          <p:cNvSpPr/>
          <p:nvPr/>
        </p:nvSpPr>
        <p:spPr>
          <a:xfrm>
            <a:off x="7812000" y="4581360"/>
            <a:ext cx="432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Line 12"/>
          <p:cNvSpPr/>
          <p:nvPr/>
        </p:nvSpPr>
        <p:spPr>
          <a:xfrm>
            <a:off x="4284720" y="4581360"/>
            <a:ext cx="43164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Line 13"/>
          <p:cNvSpPr/>
          <p:nvPr/>
        </p:nvSpPr>
        <p:spPr>
          <a:xfrm>
            <a:off x="4716360" y="4221000"/>
            <a:ext cx="432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Line 14"/>
          <p:cNvSpPr/>
          <p:nvPr/>
        </p:nvSpPr>
        <p:spPr>
          <a:xfrm>
            <a:off x="5796000" y="4005360"/>
            <a:ext cx="43164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Line 15"/>
          <p:cNvSpPr/>
          <p:nvPr/>
        </p:nvSpPr>
        <p:spPr>
          <a:xfrm>
            <a:off x="5796000" y="3933720"/>
            <a:ext cx="43164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4920" y="43920"/>
            <a:ext cx="821844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100" spc="-1" strike="noStrike">
                <a:solidFill>
                  <a:srgbClr val="000000"/>
                </a:solidFill>
                <a:latin typeface="Candara"/>
              </a:rPr>
              <a:t>Меглитиниди</a:t>
            </a:r>
            <a:r>
              <a:rPr b="1" lang="sr-CS" sz="31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lang="sr-Latn-CS" sz="3100" spc="-1" strike="noStrike">
                <a:solidFill>
                  <a:srgbClr val="000000"/>
                </a:solidFill>
                <a:latin typeface="Candara"/>
              </a:rPr>
              <a:t>(репаглинидин) </a:t>
            </a:r>
            <a:endParaRPr b="1" lang="en-US" sz="31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23720" y="1738080"/>
            <a:ext cx="825192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Индиковани су код </a:t>
            </a: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д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ијабетес мелитуса 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тип</a:t>
            </a: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а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 II</a:t>
            </a:r>
            <a:endParaRPr b="0" lang="en-US" sz="27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П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овећавају ослоба</a:t>
            </a: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ђ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ање инсулина из β</a:t>
            </a: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ћелија.</a:t>
            </a:r>
            <a:endParaRPr b="0" lang="en-US" sz="27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К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ористе </a:t>
            </a: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се 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за контролисање постпрандијалних скокова гликемије (узимају се непосредно пре оброка).</a:t>
            </a:r>
            <a:endParaRPr b="0" lang="en-US" sz="27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Делују брзо и кратко (до 2-3 часа)</a:t>
            </a:r>
            <a:endParaRPr b="0" lang="en-US" sz="27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4920" y="4608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100" spc="-1" strike="noStrike">
                <a:solidFill>
                  <a:srgbClr val="000000"/>
                </a:solidFill>
                <a:latin typeface="Candara"/>
              </a:rPr>
              <a:t>Саксаглиптин, вилдаглиптин, ситаглиптин</a:t>
            </a:r>
            <a:endParaRPr b="1" lang="en-US" sz="31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ndara"/>
              </a:rPr>
              <a:t>Смањују разградњу инкретина који се накупљају и доводе до појачане секреције инсулина, смањења секреције глукагона.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ndara"/>
              </a:rPr>
              <a:t>Користе се код д</a:t>
            </a:r>
            <a:r>
              <a:rPr b="0" lang="sr-Latn-CS" sz="2800" spc="-1" strike="noStrike">
                <a:solidFill>
                  <a:srgbClr val="000000"/>
                </a:solidFill>
                <a:latin typeface="Candara"/>
              </a:rPr>
              <a:t>ијабетес мелитуса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тип</a:t>
            </a:r>
            <a:r>
              <a:rPr b="0" lang="sr-CS" sz="2800" spc="-1" strike="noStrike">
                <a:solidFill>
                  <a:srgbClr val="000000"/>
                </a:solidFill>
                <a:latin typeface="Candara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II</a:t>
            </a:r>
            <a:r>
              <a:rPr b="0" lang="sr-CS" sz="2800" spc="-1" strike="noStrike">
                <a:solidFill>
                  <a:srgbClr val="000000"/>
                </a:solidFill>
                <a:latin typeface="Candara"/>
              </a:rPr>
              <a:t>, сами или са осталим оралним антидијабетицима.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ndara"/>
              </a:rPr>
              <a:t>Примењују се орално.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4920" y="764640"/>
            <a:ext cx="8218440" cy="57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100" spc="-1" strike="noStrike">
                <a:solidFill>
                  <a:srgbClr val="000000"/>
                </a:solidFill>
                <a:latin typeface="Candara"/>
              </a:rPr>
              <a:t>Ексенатид и лираглутид</a:t>
            </a:r>
            <a:endParaRPr b="1" lang="en-US" sz="31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362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Aналози глукагону сличног пептида 1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П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овећавају лучење инсулина, смањују секрецију глукагона и успоравају прежњење желуца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Спречавају пораст тежине и могу допринети губитку тежине код пацијената са дијабетесом тип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а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 2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П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римењују 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се 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код пацијената који нису 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адекватно 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реаговали на оралне антидијабетике, обично у комбинацији са њима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, 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поткожним путем 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Нежељена дејства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: 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хипогликемија, настанак антитела против њих и гастроинтестиналне тегобе 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9600" y="764640"/>
            <a:ext cx="81327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300" spc="-1" strike="noStrike">
                <a:solidFill>
                  <a:srgbClr val="000000"/>
                </a:solidFill>
                <a:latin typeface="Candara"/>
              </a:rPr>
              <a:t>Ефекат инсулина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2803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Инсулин поспе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ш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ује улазак глукозе и аминокиселина у 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ћ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елије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,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 инхибира глуконеогенезу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,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 поспе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ш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ује гликолизу</a:t>
            </a:r>
            <a:endParaRPr b="0" lang="en-US" sz="27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Пове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ћ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ава синтезу протеина и масти у периферним ткивима</a:t>
            </a: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; и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ндукује липопротеинску липазу, а инхибира интра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ћ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елијску липазу</a:t>
            </a:r>
            <a:endParaRPr b="0" lang="en-US" sz="27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У јетри</a:t>
            </a: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,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 поспе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ш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ује синтезу гликогена и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ndara"/>
              </a:rPr>
              <a:t>масних киселина из глукозе </a:t>
            </a:r>
            <a:endParaRPr b="0" lang="en-US" sz="27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81342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Препарати инсулина примењују се само парентерално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Без обзира ког су порекла</a:t>
            </a:r>
            <a:r>
              <a:rPr b="0" lang="sr-CS" sz="3000" spc="-1" strike="noStrike">
                <a:solidFill>
                  <a:srgbClr val="000000"/>
                </a:solidFill>
                <a:latin typeface="Candara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 препарати инсулина се деле на ултракратко, кратко, средње и дугоделују</a:t>
            </a:r>
            <a:r>
              <a:rPr b="0" lang="sr-Latn-CS" sz="3000" spc="-1" strike="noStrike">
                <a:solidFill>
                  <a:srgbClr val="000000"/>
                </a:solidFill>
                <a:latin typeface="Candara"/>
              </a:rPr>
              <a:t>ћ</a:t>
            </a: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е</a:t>
            </a:r>
            <a:r>
              <a:rPr b="0" lang="sr-CS" sz="3000" spc="-1" strike="noStrike">
                <a:solidFill>
                  <a:srgbClr val="000000"/>
                </a:solidFill>
                <a:latin typeface="Candara"/>
              </a:rPr>
              <a:t>.</a:t>
            </a:r>
            <a:r>
              <a:rPr b="1" lang="en-US" sz="30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68360" y="1622160"/>
            <a:ext cx="813744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Ултракратко делују</a:t>
            </a:r>
            <a:r>
              <a:rPr b="0" lang="sr-Latn-CS" sz="2800" spc="-1" strike="noStrike">
                <a:solidFill>
                  <a:srgbClr val="000000"/>
                </a:solidFill>
                <a:latin typeface="Candara"/>
              </a:rPr>
              <a:t>ћ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и инсулин </a:t>
            </a:r>
            <a:r>
              <a:rPr b="0" lang="sr-CS" sz="2800" spc="-1" strike="noStrike">
                <a:solidFill>
                  <a:srgbClr val="000000"/>
                </a:solidFill>
                <a:latin typeface="Candar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препарат под називом инсулин лиспро</a:t>
            </a:r>
            <a:r>
              <a:rPr b="0" lang="sr-CS" sz="2800" spc="-1" strike="noStrike">
                <a:solidFill>
                  <a:srgbClr val="000000"/>
                </a:solidFill>
                <a:latin typeface="Candar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marL="335880" indent="-3358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Примењује се су</a:t>
            </a:r>
            <a:r>
              <a:rPr b="0" lang="sr-CS" sz="2800" spc="-1" strike="noStrike">
                <a:solidFill>
                  <a:srgbClr val="000000"/>
                </a:solidFill>
                <a:latin typeface="Candara"/>
              </a:rPr>
              <a:t>б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кутано, ве</a:t>
            </a:r>
            <a:r>
              <a:rPr b="0" lang="sr-Latn-CS" sz="2800" spc="-1" strike="noStrike">
                <a:solidFill>
                  <a:srgbClr val="000000"/>
                </a:solidFill>
                <a:latin typeface="Candara"/>
              </a:rPr>
              <a:t>ћ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после 1</a:t>
            </a:r>
            <a:r>
              <a:rPr b="0" lang="sr-CS" sz="2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h дости</a:t>
            </a:r>
            <a:r>
              <a:rPr b="0" lang="sr-Latn-CS" sz="2800" spc="-1" strike="noStrike">
                <a:solidFill>
                  <a:srgbClr val="000000"/>
                </a:solidFill>
                <a:latin typeface="Candara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е максималну концентрацију у крви, а делује 3-4</a:t>
            </a:r>
            <a:r>
              <a:rPr b="0" lang="sr-Latn-CS" sz="2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h. 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marL="335880" indent="-3358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Веома је погодан за примену пре оброка</a:t>
            </a:r>
            <a:r>
              <a:rPr b="0" lang="sr-CS" sz="2800" spc="-1" strike="noStrike">
                <a:solidFill>
                  <a:srgbClr val="000000"/>
                </a:solidFill>
                <a:latin typeface="Candara"/>
              </a:rPr>
              <a:t> -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мо</a:t>
            </a:r>
            <a:r>
              <a:rPr b="0" lang="sr-Latn-CS" sz="2800" spc="-1" strike="noStrike">
                <a:solidFill>
                  <a:srgbClr val="000000"/>
                </a:solidFill>
                <a:latin typeface="Candara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е </a:t>
            </a:r>
            <a:r>
              <a:rPr b="0" lang="sr-CS" sz="2800" spc="-1" strike="noStrike">
                <a:solidFill>
                  <a:srgbClr val="000000"/>
                </a:solidFill>
                <a:latin typeface="Candara"/>
              </a:rPr>
              <a:t>се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одмах по</a:t>
            </a:r>
            <a:r>
              <a:rPr b="0" lang="sr-Latn-CS" sz="2800" spc="-1" strike="noStrike">
                <a:solidFill>
                  <a:srgbClr val="000000"/>
                </a:solidFill>
                <a:latin typeface="Candara"/>
              </a:rPr>
              <a:t>ч</a:t>
            </a:r>
            <a:r>
              <a:rPr b="0" lang="sr-CS" sz="2800" spc="-1" strike="noStrike">
                <a:solidFill>
                  <a:srgbClr val="000000"/>
                </a:solidFill>
                <a:latin typeface="Candara"/>
              </a:rPr>
              <a:t>ети са исхраном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marL="335880" indent="-3358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ndara"/>
              </a:rPr>
              <a:t>Инсулин аспарт и инсулин глулизин – аналози инсулина са такође ултракратким деловањем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68360" y="162828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Оби</a:t>
            </a:r>
            <a:r>
              <a:rPr b="0" lang="sr-Latn-CS" sz="2800" spc="-1" strike="noStrike">
                <a:solidFill>
                  <a:srgbClr val="000000"/>
                </a:solidFill>
                <a:latin typeface="Candara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ан, природни инсулин (</a:t>
            </a:r>
            <a:r>
              <a:rPr b="0" lang="sr-CS" sz="2800" spc="-1" strike="noStrike">
                <a:solidFill>
                  <a:srgbClr val="000000"/>
                </a:solidFill>
                <a:latin typeface="Candar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кристални</a:t>
            </a:r>
            <a:r>
              <a:rPr b="0" lang="sr-CS" sz="2800" spc="-1" strike="noStrike">
                <a:solidFill>
                  <a:srgbClr val="000000"/>
                </a:solidFill>
                <a:latin typeface="Candara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) делује кратко (дејство му по</a:t>
            </a:r>
            <a:r>
              <a:rPr b="0" lang="sr-Latn-CS" sz="2800" spc="-1" strike="noStrike">
                <a:solidFill>
                  <a:srgbClr val="000000"/>
                </a:solidFill>
                <a:latin typeface="Candara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иње за 30 минута, дости</a:t>
            </a:r>
            <a:r>
              <a:rPr b="0" lang="sr-Latn-CS" sz="2800" spc="-1" strike="noStrike">
                <a:solidFill>
                  <a:srgbClr val="000000"/>
                </a:solidFill>
                <a:latin typeface="Candara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е максимум за 2-3</a:t>
            </a:r>
            <a:r>
              <a:rPr b="0" lang="sr-Latn-CS" sz="2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h, и траје 6-8</a:t>
            </a:r>
            <a:r>
              <a:rPr b="0" lang="sr-Latn-CS" sz="2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h) </a:t>
            </a:r>
            <a:r>
              <a:rPr b="0" lang="sr-CS" sz="2800" spc="-1" strike="noStrike">
                <a:solidFill>
                  <a:srgbClr val="000000"/>
                </a:solidFill>
                <a:latin typeface="Candar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ndara"/>
              </a:rPr>
              <a:t>         </a:t>
            </a:r>
            <a:r>
              <a:rPr b="0" i="1" lang="en-US" sz="2800" spc="-1" strike="noStrike">
                <a:solidFill>
                  <a:srgbClr val="000000"/>
                </a:solidFill>
                <a:latin typeface="Candara"/>
              </a:rPr>
              <a:t>мо</a:t>
            </a:r>
            <a:r>
              <a:rPr b="0" i="1" lang="sr-Latn-CS" sz="2800" spc="-1" strike="noStrike">
                <a:solidFill>
                  <a:srgbClr val="000000"/>
                </a:solidFill>
                <a:latin typeface="Candara"/>
              </a:rPr>
              <a:t>ж</a:t>
            </a:r>
            <a:r>
              <a:rPr b="0" i="1" lang="en-US" sz="2800" spc="-1" strike="noStrike">
                <a:solidFill>
                  <a:srgbClr val="000000"/>
                </a:solidFill>
                <a:latin typeface="Candara"/>
              </a:rPr>
              <a:t>е се примењивати и s.c.</a:t>
            </a:r>
            <a:r>
              <a:rPr b="0" i="1" lang="sr-CS" sz="2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ndara"/>
              </a:rPr>
              <a:t>и i.v. 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ndar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нтравенск</a:t>
            </a:r>
            <a:r>
              <a:rPr b="0" lang="sr-CS" sz="2800" spc="-1" strike="noStrike">
                <a:solidFill>
                  <a:srgbClr val="000000"/>
                </a:solidFill>
                <a:latin typeface="Candara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примен</a:t>
            </a:r>
            <a:r>
              <a:rPr b="0" lang="sr-CS" sz="2800" spc="-1" strike="noStrike">
                <a:solidFill>
                  <a:srgbClr val="000000"/>
                </a:solidFill>
                <a:latin typeface="Candara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у хитним стањима: кетоацидоз</a:t>
            </a:r>
            <a:r>
              <a:rPr b="0" lang="sr-CS" sz="2800" spc="-1" strike="noStrike">
                <a:solidFill>
                  <a:srgbClr val="000000"/>
                </a:solidFill>
                <a:latin typeface="Candara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, после операције или за време те</a:t>
            </a:r>
            <a:r>
              <a:rPr b="0" lang="sr-Latn-CS" sz="2800" spc="-1" strike="noStrike">
                <a:solidFill>
                  <a:srgbClr val="000000"/>
                </a:solidFill>
                <a:latin typeface="Candara"/>
              </a:rPr>
              <a:t>ш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ких инфекција</a:t>
            </a:r>
            <a:r>
              <a:rPr b="0" lang="sr-CS" sz="2800" spc="-1" strike="noStrike">
                <a:solidFill>
                  <a:srgbClr val="000000"/>
                </a:solidFill>
                <a:latin typeface="Candar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68360" y="1620360"/>
            <a:ext cx="820728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Додавањем цинка или протамина инсулину добијају се препарати који после s.c. примене постепено отпу</a:t>
            </a:r>
            <a:r>
              <a:rPr b="0" lang="sr-Latn-CS" sz="2800" spc="-1" strike="noStrike">
                <a:solidFill>
                  <a:srgbClr val="000000"/>
                </a:solidFill>
                <a:latin typeface="Candara"/>
              </a:rPr>
              <a:t>ш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тају инсулин и тако делују средње</a:t>
            </a:r>
            <a:r>
              <a:rPr b="0" lang="sr-Latn-CS" sz="2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-</a:t>
            </a:r>
            <a:r>
              <a:rPr b="0" lang="sr-Latn-CS" sz="2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дуго или дуго 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ndara"/>
              </a:rPr>
              <a:t>У последње време, протамин се избегава.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Средње</a:t>
            </a:r>
            <a:r>
              <a:rPr b="0" lang="sr-Latn-CS" sz="2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-</a:t>
            </a:r>
            <a:r>
              <a:rPr b="0" lang="sr-Latn-CS" sz="2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дуго делују инсулин ленте (ме</a:t>
            </a:r>
            <a:r>
              <a:rPr b="0" lang="sr-Latn-CS" sz="2800" spc="-1" strike="noStrike">
                <a:solidFill>
                  <a:srgbClr val="000000"/>
                </a:solidFill>
                <a:latin typeface="Candara"/>
              </a:rPr>
              <a:t>ш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авина 30</a:t>
            </a:r>
            <a:r>
              <a:rPr b="0" lang="sr-Latn-CS" sz="2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% инсулина семиленте и 70</a:t>
            </a:r>
            <a:r>
              <a:rPr b="0" lang="sr-Latn-CS" sz="2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% инсулина ултраленте</a:t>
            </a:r>
            <a:r>
              <a:rPr b="0" lang="sr-Latn-CS" sz="2800" spc="-1" strike="noStrike">
                <a:solidFill>
                  <a:srgbClr val="000000"/>
                </a:solidFill>
                <a:latin typeface="Candara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Дејство им по</a:t>
            </a:r>
            <a:r>
              <a:rPr b="0" lang="sr-Latn-CS" sz="2800" spc="-1" strike="noStrike">
                <a:solidFill>
                  <a:srgbClr val="000000"/>
                </a:solidFill>
                <a:latin typeface="Candara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иње за око 2</a:t>
            </a:r>
            <a:r>
              <a:rPr b="0" lang="sr-CS" sz="2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h</a:t>
            </a:r>
            <a:r>
              <a:rPr b="0" lang="sr-Latn-CS" sz="2800" spc="-1" strike="noStrike">
                <a:solidFill>
                  <a:srgbClr val="000000"/>
                </a:solidFill>
                <a:latin typeface="Candara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а траје до 24</a:t>
            </a:r>
            <a:r>
              <a:rPr b="0" lang="sr-CS" sz="2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h</a:t>
            </a:r>
            <a:r>
              <a:rPr b="0" lang="sr-CS" sz="2800" spc="-1" strike="noStrike">
                <a:solidFill>
                  <a:srgbClr val="000000"/>
                </a:solidFill>
                <a:latin typeface="Candara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69800" y="1626840"/>
            <a:ext cx="7989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Дуго делују инсулин ултраленте и протамин-</a:t>
            </a:r>
            <a:r>
              <a:rPr b="0" lang="sr-Latn-CS" sz="2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цинк-инсулин </a:t>
            </a:r>
            <a:r>
              <a:rPr b="0" lang="sr-CS" sz="2800" spc="-1" strike="noStrike">
                <a:solidFill>
                  <a:srgbClr val="000000"/>
                </a:solidFill>
                <a:latin typeface="Candara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код којих су додате јо</a:t>
            </a:r>
            <a:r>
              <a:rPr b="0" lang="sr-Latn-CS" sz="2800" spc="-1" strike="noStrike">
                <a:solidFill>
                  <a:srgbClr val="000000"/>
                </a:solidFill>
                <a:latin typeface="Candara"/>
              </a:rPr>
              <a:t>ш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ве</a:t>
            </a:r>
            <a:r>
              <a:rPr b="0" lang="sr-Latn-CS" sz="2800" spc="-1" strike="noStrike">
                <a:solidFill>
                  <a:srgbClr val="000000"/>
                </a:solidFill>
                <a:latin typeface="Candara"/>
              </a:rPr>
              <a:t>ћ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е коли</a:t>
            </a:r>
            <a:r>
              <a:rPr b="0" lang="sr-Latn-CS" sz="2800" spc="-1" strike="noStrike">
                <a:solidFill>
                  <a:srgbClr val="000000"/>
                </a:solidFill>
                <a:latin typeface="Candara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ине цинка односно протамина</a:t>
            </a:r>
            <a:r>
              <a:rPr b="0" lang="sr-CS" sz="2800" spc="-1" strike="noStrike">
                <a:solidFill>
                  <a:srgbClr val="000000"/>
                </a:solidFill>
                <a:latin typeface="Candar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Дејство им по</a:t>
            </a:r>
            <a:r>
              <a:rPr b="0" lang="sr-Latn-CS" sz="2800" spc="-1" strike="noStrike">
                <a:solidFill>
                  <a:srgbClr val="000000"/>
                </a:solidFill>
                <a:latin typeface="Candara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иње за 4</a:t>
            </a:r>
            <a:r>
              <a:rPr b="0" lang="sr-Latn-CS" sz="2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h</a:t>
            </a:r>
            <a:r>
              <a:rPr b="0" lang="sr-Latn-CS" sz="2800" spc="-1" strike="noStrike">
                <a:solidFill>
                  <a:srgbClr val="000000"/>
                </a:solidFill>
                <a:latin typeface="Candara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а траје и до 36</a:t>
            </a:r>
            <a:r>
              <a:rPr b="0" lang="sr-Latn-CS" sz="2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h 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ndara"/>
              </a:rPr>
              <a:t>Д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угоделују</a:t>
            </a:r>
            <a:r>
              <a:rPr b="0" lang="sr-Latn-CS" sz="2800" spc="-1" strike="noStrike">
                <a:solidFill>
                  <a:srgbClr val="000000"/>
                </a:solidFill>
                <a:latin typeface="Candara"/>
              </a:rPr>
              <a:t>ћ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и препарат инсулина </a:t>
            </a:r>
            <a:r>
              <a:rPr b="0" lang="sr-CS" sz="2800" spc="-1" strike="noStrike">
                <a:solidFill>
                  <a:srgbClr val="000000"/>
                </a:solidFill>
                <a:latin typeface="Candara"/>
              </a:rPr>
              <a:t>– </a:t>
            </a:r>
            <a:r>
              <a:rPr b="0" i="1" lang="en-US" sz="2800" spc="-1" strike="noStrike">
                <a:solidFill>
                  <a:srgbClr val="000000"/>
                </a:solidFill>
                <a:latin typeface="Candara"/>
              </a:rPr>
              <a:t>гларгин</a:t>
            </a:r>
            <a:r>
              <a:rPr b="0" lang="sr-CS" sz="2800" spc="-1" strike="noStrike">
                <a:solidFill>
                  <a:srgbClr val="000000"/>
                </a:solidFill>
                <a:latin typeface="Candara"/>
              </a:rPr>
              <a:t>, (обезбеђује равномеран ниво инсулина, без пикова више од 24 </a:t>
            </a:r>
            <a:r>
              <a:rPr b="0" lang="sr-Latn-CS" sz="2800" spc="-1" strike="noStrike">
                <a:solidFill>
                  <a:srgbClr val="000000"/>
                </a:solidFill>
                <a:latin typeface="Candara"/>
              </a:rPr>
              <a:t>h</a:t>
            </a:r>
            <a:r>
              <a:rPr b="0" lang="sr-CS" sz="2800" spc="-1" strike="noStrike">
                <a:solidFill>
                  <a:srgbClr val="000000"/>
                </a:solidFill>
                <a:latin typeface="Candar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5T11:20:01Z</dcterms:created>
  <dc:creator>Marko</dc:creator>
  <dc:description/>
  <dc:language>en-US</dc:language>
  <cp:lastModifiedBy>User13</cp:lastModifiedBy>
  <dcterms:modified xsi:type="dcterms:W3CDTF">2021-01-31T16:47:02Z</dcterms:modified>
  <cp:revision>231</cp:revision>
  <dc:subject>Klinicki farmakolog</dc:subject>
  <dc:title>Predavanje za sajt fakulteta</dc:title>
</cp:coreProperties>
</file>